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B97-E3CF-4EC4-8B37-B2A21C0E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1D9-4E18-4BBE-AE12-CBA6BB6B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4B4-F6C5-4B65-95B3-9BE1B2EA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069-ED1B-4A8E-BF3C-750CA767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438-0E98-47C4-91F5-364C5C26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0DE-4C4C-4BA0-A5D2-2EADAED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0C5-C2B3-4C6B-B3A1-2283315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BF9-1D53-4059-A7F6-4412EBAF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8E2-94DD-460E-8DAD-4104E811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A76-5E06-4C6F-803C-D6EC736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9C6-5639-4714-8801-82285749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354-05B7-4F7A-BC6D-E92F6D6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33C8-E6AD-46F5-9568-6372F4F24E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0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az 6" descr=""/>
          <p:cNvPicPr/>
          <p:nvPr/>
        </p:nvPicPr>
        <p:blipFill>
          <a:blip r:embed="rId2"/>
          <a:stretch/>
        </p:blipFill>
        <p:spPr>
          <a:xfrm>
            <a:off x="-18108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Symbol zastępczy zawartości 2"/>
          <p:cNvSpPr/>
          <p:nvPr/>
        </p:nvSpPr>
        <p:spPr>
          <a:xfrm>
            <a:off x="550800" y="6353280"/>
            <a:ext cx="8186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az 8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2800" spc="-1" strike="noStrike">
                <a:solidFill>
                  <a:srgbClr val="17375e"/>
                </a:solidFill>
                <a:latin typeface="TitilliumText25L"/>
              </a:rPr>
              <a:t> </a:t>
            </a:r>
            <a:br>
              <a:rPr sz="2800"/>
            </a:br>
            <a:r>
              <a:rPr b="1" lang="pl-PL" sz="2800" spc="-1" strike="noStrike">
                <a:solidFill>
                  <a:srgbClr val="17375e"/>
                </a:solidFill>
                <a:latin typeface="TitilliumText25L"/>
              </a:rPr>
              <a:t>Wdrażanie Zintegrowanych Inwestycji Terytorialnych Koszalińsko-Kołobrzesko-Białogardzkiego Obszaru Funkcjonalnego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Mielno, 15 grudnia 2016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8" descr=""/>
          <p:cNvPicPr/>
          <p:nvPr/>
        </p:nvPicPr>
        <p:blipFill>
          <a:blip r:embed="rId2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00944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9"/>
          <p:cNvSpPr/>
          <p:nvPr/>
        </p:nvSpPr>
        <p:spPr>
          <a:xfrm>
            <a:off x="1258920" y="2205000"/>
            <a:ext cx="655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Działanie 2.3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Zrównoważona multimodalna mobilność miejska i działania adaptacyjne łagodzące zmiany klimatu w ramach Strategii ZIT dla Koszalińsko-Kołobrzesko-Białogardzkiego Obszaru Funkcjonalnego –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ażne informa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"/>
          <p:cNvPicPr/>
          <p:nvPr/>
        </p:nvPicPr>
        <p:blipFill>
          <a:blip r:embed="rId4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az 8" descr=""/>
          <p:cNvPicPr/>
          <p:nvPr/>
        </p:nvPicPr>
        <p:blipFill>
          <a:blip r:embed="rId2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009440" cy="1004760"/>
          </a:xfrm>
          <a:prstGeom prst="rect">
            <a:avLst/>
          </a:prstGeom>
          <a:ln w="0">
            <a:noFill/>
          </a:ln>
        </p:spPr>
      </p:pic>
      <p:pic>
        <p:nvPicPr>
          <p:cNvPr id="100" name="Obraz 6" descr=""/>
          <p:cNvPicPr/>
          <p:nvPr/>
        </p:nvPicPr>
        <p:blipFill>
          <a:blip r:embed="rId4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12"/>
          <p:cNvSpPr/>
          <p:nvPr/>
        </p:nvSpPr>
        <p:spPr>
          <a:xfrm>
            <a:off x="1692360" y="189000"/>
            <a:ext cx="54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Arial"/>
              </a:rPr>
              <a:t>2.3 Zrównoważona multimodalna mobilność miejska i działania adaptacyjne łagodzace zmiany klimatu w ramach Startegii ZIT dla Koszalińsko-Kołobrzesko-Białogardzkiego Obszaru Funkcjonal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1341360"/>
          <a:ext cx="7777440" cy="5272200"/>
        </p:xfrm>
        <a:graphic>
          <a:graphicData uri="http://schemas.openxmlformats.org/drawingml/2006/table">
            <a:tbl>
              <a:tblPr/>
              <a:tblGrid>
                <a:gridCol w="243000"/>
                <a:gridCol w="1301760"/>
                <a:gridCol w="4935600"/>
                <a:gridCol w="1297080"/>
              </a:tblGrid>
              <a:tr h="4921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p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Nazwa Wnioskodaw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Tytuł projektu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rzewidywany termin złożenia wniosku o dofinansowanie </a:t>
                      </a:r>
                      <a:r>
                        <a:rPr b="1" lang="pl-PL" sz="800" spc="-1" strike="noStrike" u="sng">
                          <a:solidFill>
                            <a:srgbClr val="254061"/>
                          </a:solidFill>
                          <a:uFillTx/>
                          <a:latin typeface="Arial"/>
                        </a:rPr>
                        <a:t>wg deklaracj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iasto Białog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Rozwój zrównoważonej mobilności miejskiej na terenie Koszalińsko-Kołobrzesko-Białogardzkiego Obszaru Funkcjonalnego poprzez budowę dróg dla rowerów na terenie miasta Białog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uty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Zakład Komunikacji Miejskiej Sp. z o.o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ubliczny transport niskoemisyjny na terenie KKBOF - zakup taboru miejskiego na terenie miasta Białog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istopad 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Dygow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ogi rowerowej odcinek od granicy z gminą Karlino w m. Skoczów, z odgałęzieniem wzdłuż drogi powiatowej nr 3341Z do m. Skoczów, przez m. Wrzosowo i Kłopotowo, z odgałęzieniem do m. Włościbórz, do granicy z gminą Karlino w m. Kłopotow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wrzesień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6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Kołobrze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ogi rowerowej wzdłuż dróg powiatowych Kołobrzeg–Korzystno–Przećmino Etap I i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czerwiec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Gości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i wyposażenie obiektu infrastruktury zintegrowanego systemu transportu publicznego tj. multimodalnego centrum przesiadkowego wraz z centrum usług informatycznych i komunikacyjnych oraz zakup taboru transportu miejskiego w Gości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czerwiec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Karli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ogi rowerowej odcinek od granicy z gminą Dygowo w m. Mierzyn do istniejącej drogi rowerowej w pasie drogi wojewódzkiej nr 163 oraz odcinek od granicą z gminą Dygowo w m. Czerwięcino do istniejącej drogi rowerowej w m. Lubiechow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aj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iejski Zakład Komunikacji Spółka z o.o. w Koszali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Zakup taboru niskoemisyjne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rudzień 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Miasto Kosza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Inwestycje w zintegrowaną infrastrukturę związaną z transportem niskoemisyjnym na terenie Kosza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arzec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Manow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ogi dla rowerów wzdłuż drogi krajowej nr 11 jako alternatywa dla transportu kołowe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arzec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4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Miasto Kołobrze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Inteligentne systemy transportowe, ścieżki rowerowe,  miejska  wypożyczalnia rowerów oraz parkingi strategiczne Park &amp; R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aździernik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Komunikacja Miejska w Kołobrzegu Spółka z o.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Zakup niskoemisyjnego nowego taboru autobusowego dla Kołobrzeg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aździernik 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Miel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centrum przesiadkowego w Miel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ipiec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Polanó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óg rowerowych na trasie Jacinki-Polanów oraz Rzeczyca Wielka–Polanów wraz z budową Centrum Przesiadkowego w Polanow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arzec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Sianó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Rozbudowa sieci dróg rowerowych na terenie Gminy i Miasta Sianó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uty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Siemyś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ogi pieszo - rowerowej Siemyśl-Charzyno oraz budowa centrum przesiadkowego w Charzy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aździernik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Świeszy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óg dla rowerów na terenie Gminy Świeszy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5 październik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4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Tychow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udowa drogi pieszo rowerowej z centrum miejscowości Tychowo od skrzyżowania z ul. Białogardzką wzdłuż ul. Dworcowej do ul. Kolejowej prowadzącej do dworca kolejowe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czerwiec 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04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Symbol zastępczy zawartości 2"/>
          <p:cNvSpPr/>
          <p:nvPr/>
        </p:nvSpPr>
        <p:spPr>
          <a:xfrm>
            <a:off x="539640" y="1628640"/>
            <a:ext cx="81867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sprawach związanych z przedmiotowym naborem oraz ustaleniem terminu konsultacji indywidualnych proszę się kontaktować z niżej wskazanymi osob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Barbara K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adres e-mail: bakuza@wzp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tel.: 91 44 11 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Małgorzata Lichtań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adres e-mail: mlichtanska@wzp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tel.: 91 44 11 6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10094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10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Symbol zastępczy zawartości 2"/>
          <p:cNvSpPr/>
          <p:nvPr/>
        </p:nvSpPr>
        <p:spPr>
          <a:xfrm>
            <a:off x="539640" y="1341360"/>
            <a:ext cx="81867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sparcie jest możliwe dla działań podejmowanych na obszarach, dla których stworzony zosta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przypadku projektów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typu 1 i 2 </a:t>
            </a:r>
            <a:r>
              <a:rPr b="0" lang="pl-PL" sz="2000" spc="-1" strike="noStrike">
                <a:solidFill>
                  <a:srgbClr val="254061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lan Gospodarki Niskoemisyjnej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oraz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lan Zrównoważonej Mobilności Miejskiej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, jako osobny dokument lub jako element Planu Gospodarki Niskoemisyjnej bądź innego dokumentu strategiczn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przypadku projektów typu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3a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lan Gospodarki Niskoemisyjnej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przypadku projektów typu 3b – nie doty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Dokument potwierdzający akceptację Planu Gospodarki Niskoemisyjnej przez właściwy organ (załącznik nr 5.17) jest załącznikiem obowiązkowym, </a:t>
            </a: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który obligatoryjnie należy przedłożyć na etapie składania wniosku o dofinansowanie.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10094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sp>
        <p:nvSpPr>
          <p:cNvPr id="119" name="Prostokąt 7"/>
          <p:cNvSpPr/>
          <p:nvPr/>
        </p:nvSpPr>
        <p:spPr>
          <a:xfrm>
            <a:off x="1258920" y="2136600"/>
            <a:ext cx="619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Działanie 5.3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Budowa i przebudowa dróg lokalnych (gminnych i powiatowych) w ramach Strategii ZIT dla Koszalińsko-Kołobrzesko-Białogardzkiego Obszaru Funkcjonalnego –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ażne informa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22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  <p:sp>
        <p:nvSpPr>
          <p:cNvPr id="127" name="Prostokąt 8"/>
          <p:cNvSpPr/>
          <p:nvPr/>
        </p:nvSpPr>
        <p:spPr>
          <a:xfrm>
            <a:off x="1835280" y="260280"/>
            <a:ext cx="502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5.3 Budowa i przebudowa dróg lokalnych (gminnych i powiatowych) w ramach Strategii ZIT dla Koszalińsko-Kołobrzesko-Białogardzkiego Obszaru Funkcj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42920" y="1773360"/>
          <a:ext cx="7201080" cy="4032000"/>
        </p:xfrm>
        <a:graphic>
          <a:graphicData uri="http://schemas.openxmlformats.org/drawingml/2006/table">
            <a:tbl>
              <a:tblPr/>
              <a:tblGrid>
                <a:gridCol w="225360"/>
                <a:gridCol w="1204920"/>
                <a:gridCol w="4508640"/>
                <a:gridCol w="1262160"/>
              </a:tblGrid>
              <a:tr h="933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Nazwa Wnioskodaw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Tytuł projekt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rzewidywany termin złożenia wniosku o dofinansowanie </a:t>
                      </a:r>
                      <a:r>
                        <a:rPr b="1" lang="pl-PL" sz="1000" spc="-1" strike="noStrike" u="sng">
                          <a:solidFill>
                            <a:srgbClr val="254061"/>
                          </a:solidFill>
                          <a:uFillTx/>
                          <a:latin typeface="Arial"/>
                        </a:rPr>
                        <a:t>wg dekla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Będz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rzebudowa </a:t>
                      </a:r>
                      <a:br>
                        <a:rPr sz="1000"/>
                      </a:b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i remont drogi od węzła Borkowice na odcinkach Borkowice-Śmiechów-Kładno-Pleśna w zakresie powiązania z istniejącą drogą krajową nr 11 oraz planowaną drogą ekspresową S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czerwie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Biesiekier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owiązanie lokalnego układu komunikacyjnego w Gminie Biesiekierz z planowymi drogami ekspresowymi S6 </a:t>
                      </a:r>
                      <a:br>
                        <a:rPr sz="1000"/>
                      </a:b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i S11 – Połączenie m. Stare Bielice z Podstrefą „Koszalin” SS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rudzień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Miasto Kołobrz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rzebudowa ulicy Towarowej i odcinka ulicy Zdrojowej w Kołobrzeg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istopad 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Sianó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Dostosowanie lokalnego układu komunikacyjnego do przebiegu drogi  S6 na terenie Gminy i Miasta Sianó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arze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Ustronie Morsk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odniesienie atrakcyjności oraz poprawa dostępności regionu poprzez usprawnienie połączeń do planowanej drogi ekspresowej S6 wraz z wprowadzeniem alternatywnych rozwiązań transport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czerwie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Prostokąt 8"/>
          <p:cNvSpPr/>
          <p:nvPr/>
        </p:nvSpPr>
        <p:spPr>
          <a:xfrm>
            <a:off x="1835280" y="260280"/>
            <a:ext cx="502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5.3 Budowa i przebudowa dróg lokalnych (gminnych i powiatowych) w ramach Strategii ZIT dla Koszalińsko-Kołobrzesko-Białogardzkiego Obszaru Funkcj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10"/>
          <p:cNvSpPr/>
          <p:nvPr/>
        </p:nvSpPr>
        <p:spPr>
          <a:xfrm>
            <a:off x="1187280" y="1989000"/>
            <a:ext cx="7056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sprawach związanych z przedmiotowym naborem oraz ustaleniem terminu konsultacji indywidualnych proszę się kontaktować z niżej wskazanymi osob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Anna Gier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adres e-mail: agierlik@wzp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tel.: 91 44 11 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Ewelina Krawc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adres e-mail: ekrawczyk@wzp.p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tel.: 91 44 11 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38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  <p:sp>
        <p:nvSpPr>
          <p:cNvPr id="143" name="Prostokąt 8"/>
          <p:cNvSpPr/>
          <p:nvPr/>
        </p:nvSpPr>
        <p:spPr>
          <a:xfrm>
            <a:off x="1547640" y="333360"/>
            <a:ext cx="52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5.3 Budowa i przebudowa dróg lokalnych (gminnych i powiatowych) w ramach Strategii ZIT dla Koszalińsko-Kołobrzesko-Białogardzkiego Obszaru Funkcj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rostokąt 10"/>
          <p:cNvSpPr/>
          <p:nvPr/>
        </p:nvSpPr>
        <p:spPr>
          <a:xfrm>
            <a:off x="324000" y="1341360"/>
            <a:ext cx="842472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Jakie warunki muszą spełniać projekty?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arunki kwalifikowalnośc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zapewnienie koniecznego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 bezpośredniego połączenia z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siecią TEN-T - istniejącą, będącą w trakcie budowy lub przewidzianą do budowy w perspektywie finansowej 2014-202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przejściami graniczny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portami lotniczy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portami morski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terminalami towarowy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centrami lub platformami logistyczny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l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zapewnienie dojazdu do istniejących lub planowanych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 terenów inwestycyjnych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.</a:t>
            </a:r>
            <a:br>
              <a:rPr sz="1400"/>
            </a:b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46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8"/>
          <p:cNvSpPr/>
          <p:nvPr/>
        </p:nvSpPr>
        <p:spPr>
          <a:xfrm>
            <a:off x="1547640" y="333360"/>
            <a:ext cx="52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5.3 Budowa i przebudowa dróg lokalnych (gminnych i powiatowych) w ramach Strategii ZIT dla Koszalińsko-Kołobrzesko-Białogardzkiego Obszaru Funkcj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10"/>
          <p:cNvSpPr/>
          <p:nvPr/>
        </p:nvSpPr>
        <p:spPr>
          <a:xfrm>
            <a:off x="324000" y="1341360"/>
            <a:ext cx="842472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Co oznacza „bezpośrednie połączenie”?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Bezpośrednie połączenie - fizyczne, bezpośrednie połączenie drogi lokalnej objętej projektem z siecią TEN-T, przejściami granicznymi (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O spełnieniu tego warunku można mówić, jeżeli budowany/ przebudowywany w ramach projektu odcinek drogi lokalnej 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fizycznie połączy się z węzłem autostrady lub drogi ekspresowej (etc.)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Gdy odcinek drogi lokalnej został już przebudowany i spełnia wymagane parametry techniczne, 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można realizować bezpośrednio przylegający do niego odcinek tej samej drogi lokalnej (o tej samej kategorii </a:t>
            </a:r>
            <a:br>
              <a:rPr sz="2000"/>
            </a:b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i numerze)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-  jeżeli jest to niezbędne dla osiągnięcia efektu sieciowego - jednak 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nie dalej niż do najbliższego skrzyżowania z drogą krajową lub wojewódzką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54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  <p:sp>
        <p:nvSpPr>
          <p:cNvPr id="159" name="Prostokąt 8"/>
          <p:cNvSpPr/>
          <p:nvPr/>
        </p:nvSpPr>
        <p:spPr>
          <a:xfrm>
            <a:off x="1547640" y="333360"/>
            <a:ext cx="52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5.3 Budowa i przebudowa dróg lokalnych (gminnych i powiatowych) w ramach Strategii ZIT dla Koszalińsko-Kołobrzesko-Białogardzkiego Obszaru Funkcj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324000" y="1341360"/>
            <a:ext cx="85690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Co oznacza pojęcie „teren inwestycyjny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Istniejący teren inwestycyjny</a:t>
            </a: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 to teren, któ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powstał w ramach Priorytetu Inwestycyjnego 3a „Promowanie przedsiębiorczości, w szczególności poprzez ułatwianie gospodarczego wykorzystywania nowych pomysłów oraz sprzyjanie tworzeniu nowych firm, </a:t>
            </a:r>
            <a:br>
              <a:rPr sz="1800"/>
            </a:b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w tym również poprzez inkubatory przedsiębiorczości” w perspektywie finansowej 2014-202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został objęty analogicznym wsparciem w perspektywie finansowej 2007-201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powstały z innych środków i funkcjonują jako teren inwestycyj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Planowany teren inwestycyjny</a:t>
            </a: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 to ter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utworzony w ramach projektu realizowanego w Celu Tematycznym 3 „Wzmacnianie konkurencyjności MŚP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TitilliumText25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sfinansowany z innych źródeł (np. ze środków własnych beneficjenta), </a:t>
            </a:r>
            <a:r>
              <a:rPr b="0" lang="pl-PL" sz="1800" spc="-1" strike="noStrike" u="sng">
                <a:solidFill>
                  <a:srgbClr val="254061"/>
                </a:solidFill>
                <a:uFillTx/>
                <a:latin typeface="TitilliumText25L"/>
              </a:rPr>
              <a:t>przy czym ww. teren musi powstać do 31 grudnia 2021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tilliumText25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niosek o dofinansowanie musi być sporządzony w </a:t>
            </a: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Serwisie Beneficjenta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poprzez wypełnienie on-line właściwego formular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Dostęp do Serwisu Beneficjenta jest możliwy za pośrednictwem strony internetowej www.rpo.wzp.pl lub bezpośrednio poprzez adres  https://beneficjent.wzp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Dokumentację aplikacyjną należy złożyć do IZ RPO WZ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 terminie wskazanym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przez wnioskodawcę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 deklaracji o przygotowaniu projektu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,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o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wcześniejszym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isemnym wezwaniu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nioskodawcy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rzez IZ RPO WZ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do złożenia dokumentacji aplikacyjnej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ytuł 1"/>
          <p:cNvSpPr/>
          <p:nvPr/>
        </p:nvSpPr>
        <p:spPr>
          <a:xfrm>
            <a:off x="1403280" y="40464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254061"/>
                </a:solidFill>
                <a:latin typeface="TitilliumText25L"/>
              </a:rPr>
              <a:t>Wniosek o dofinansow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62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1012680" cy="10080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8"/>
          <p:cNvSpPr/>
          <p:nvPr/>
        </p:nvSpPr>
        <p:spPr>
          <a:xfrm>
            <a:off x="1547640" y="333360"/>
            <a:ext cx="52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5.3 Budowa i przebudowa dróg lokalnych (gminnych i powiatowych) w ramach Strategii ZIT dla Koszalińsko-Kołobrzesko-Białogardzkiego Obszaru Funkcj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10"/>
          <p:cNvSpPr/>
          <p:nvPr/>
        </p:nvSpPr>
        <p:spPr>
          <a:xfrm>
            <a:off x="324000" y="1341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tilliumText25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Wymagane załączniki specyficzne dla działania 5.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2000" y="2492280"/>
          <a:ext cx="6696000" cy="3275280"/>
        </p:xfrm>
        <a:graphic>
          <a:graphicData uri="http://schemas.openxmlformats.org/drawingml/2006/table">
            <a:tbl>
              <a:tblPr/>
              <a:tblGrid>
                <a:gridCol w="2168280"/>
                <a:gridCol w="2359080"/>
                <a:gridCol w="2168640"/>
              </a:tblGrid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Warunek kwalifikowalnoś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Załączn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Termin złoż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25406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sieć TEN-T, przejścia graniczne (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25406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tereny inwestycyjny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m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Wniose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o dofinans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tereny inwestycyj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Times New Roman"/>
                        </a:rPr>
                        <a:t>wypis i wyrys z miejscowego planu zagospodarowania przestrzennego lub studium uwarunkowań i kierunków zagospodarowania przestrzen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istniejące – wniose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o dofinans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54061"/>
                          </a:solidFill>
                          <a:latin typeface="Arial"/>
                          <a:ea typeface="Arial"/>
                        </a:rPr>
                        <a:t>planowane - 30 dni od utworzenia terenów inwestycyjnych, nie później niż do 30.01.2022 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71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8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134928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8"/>
          <p:cNvSpPr/>
          <p:nvPr/>
        </p:nvSpPr>
        <p:spPr>
          <a:xfrm>
            <a:off x="1547640" y="333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TitilliumText25L"/>
              </a:rPr>
              <a:t>Najczęściej popełniane błędy we wnioskach o dofinans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rostokąt 10"/>
          <p:cNvSpPr/>
          <p:nvPr/>
        </p:nvSpPr>
        <p:spPr>
          <a:xfrm>
            <a:off x="324000" y="1341360"/>
            <a:ext cx="8569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Po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3.4.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Z listy rozwijanej należy wybrać odpowiedni rodzaj działalności gospodarczej </a:t>
            </a:r>
            <a:r>
              <a:rPr b="1" lang="pl-PL" sz="1400" spc="-1" strike="noStrike" u="sng">
                <a:solidFill>
                  <a:srgbClr val="254061"/>
                </a:solidFill>
                <a:uFillTx/>
                <a:latin typeface="TitilliumText25L"/>
              </a:rPr>
              <a:t>w odniesieniu do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A.1.1.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Zgodnie z </a:t>
            </a:r>
            <a:r>
              <a:rPr b="0" i="1" lang="pl-PL" sz="1400" spc="-1" strike="noStrike">
                <a:solidFill>
                  <a:srgbClr val="254061"/>
                </a:solidFill>
                <a:latin typeface="TitilliumText25L"/>
              </a:rPr>
              <a:t>Regulaminem konkursu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rozpoczęcie realizacji projektu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 – podjęcie jakichkolwiek działań w ramach projektu, </a:t>
            </a:r>
            <a:r>
              <a:rPr b="0" lang="pl-PL" sz="1400" spc="-1" strike="noStrike" u="sng">
                <a:solidFill>
                  <a:srgbClr val="254061"/>
                </a:solidFill>
                <a:uFillTx/>
                <a:latin typeface="TitilliumText25L"/>
              </a:rPr>
              <a:t>niebędących rozpoczęciem prac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, w tym zakup gruntu, lub rozpoczęcie prac w ramach projektu, w zależności od tego co nastąpi najpier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rozpoczęcie prac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–</a:t>
            </a: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 </a:t>
            </a:r>
            <a:r>
              <a:rPr b="0" lang="pl-PL" sz="1400" spc="-1" strike="noStrike" u="sng">
                <a:solidFill>
                  <a:srgbClr val="254061"/>
                </a:solidFill>
                <a:uFillTx/>
                <a:latin typeface="TitilliumText25L"/>
              </a:rPr>
              <a:t>rozpoczęcie robót budowlanych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związanych z inwestycją objętą projektem lub pierwsze prawnie wiążące zobowiązanie do zamówienia urządzeń lub inne zobowiązanie, które powoduje, że inwestycja staje się nieodwracalna, w zależności od tego co nastąpi najpier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rozpoczęcie kwalifikowalności wydatków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– data </a:t>
            </a:r>
            <a:r>
              <a:rPr b="0" lang="pl-PL" sz="1400" spc="-1" strike="noStrike" u="sng">
                <a:solidFill>
                  <a:srgbClr val="254061"/>
                </a:solidFill>
                <a:uFillTx/>
                <a:latin typeface="TitilliumText25L"/>
              </a:rPr>
              <a:t>poniesienia pierwszego wydatku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kwalifikowalnego </a:t>
            </a:r>
            <a:br>
              <a:rPr sz="1400"/>
            </a:b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w projekcie (np. opłacenie Studium wykonalnośc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Arial"/>
              </a:rPr>
              <a:t>A.4.9. 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Informacje dotyczące lokalizacji projektu muszą być spójne w całej dokumentacji aplikacyjnej tj. we wniosku o dofinansowanie, Studium Wykonalności oraz załącznikach 3a </a:t>
            </a: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Zaświadczenie organu odpowiedzialnego za monitorowanie obszarów NATURA 2000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 i 3b </a:t>
            </a: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Deklaracja organu odpowiedzialnego za gospodarkę wodn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Arial"/>
              </a:rPr>
              <a:t>D.6.2. 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W uzasadnieniu do pola D.6.2. należy podać link do strony internetowej, na której znajduje się Planu Gospodarki Niskoemisyjnej/Plan Zrównoważonej Mobilności Miejskiej oraz odpowiedni numer strony dokumentu, gdzie znajdzie się odniesienie do planowanej inwestycji (dotyczy tylko działania 2.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78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8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1349280"/>
          </a:xfrm>
          <a:prstGeom prst="rect">
            <a:avLst/>
          </a:prstGeom>
          <a:ln w="0">
            <a:noFill/>
          </a:ln>
        </p:spPr>
      </p:pic>
      <p:sp>
        <p:nvSpPr>
          <p:cNvPr id="182" name="Prostokąt 8"/>
          <p:cNvSpPr/>
          <p:nvPr/>
        </p:nvSpPr>
        <p:spPr>
          <a:xfrm>
            <a:off x="1547640" y="333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TitilliumText25L"/>
              </a:rPr>
              <a:t>Najczęściej popełniane błędy we wnioskach o dofinans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10"/>
          <p:cNvSpPr/>
          <p:nvPr/>
        </p:nvSpPr>
        <p:spPr>
          <a:xfrm>
            <a:off x="324000" y="1341360"/>
            <a:ext cx="8569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D.9.2.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Należy zwrócić uwagę, by w edytowalnych polach sekcji D.9.1 oraz D.9.2 uwzględnione zostały m.in. następujące informacje: wartość/szacowana wartość zamówienia; uzasadnienie wybranego/ planowanego trybu udzielenia zamówienia; czy wnioskodawca zobowiązany jest do stosowania ustawy Prawo zamówień publicznych (jeśli nie, należy wskazać podstawę zwolnienia); w jaki sposób wnioskodawca zastosował/będzie realizował zasadę konkurencyjności (jeśli dotyczy); sposób upublicznienia informacji o planowanym udzieleniu zamówienia; numer ogłoszenia (jeśli dotycz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</a:rPr>
              <a:t>E.1.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Zgodnie z zapisami </a:t>
            </a:r>
            <a:r>
              <a:rPr b="0" i="1" lang="pl-PL" sz="1400" spc="-1" strike="noStrike">
                <a:solidFill>
                  <a:srgbClr val="254061"/>
                </a:solidFill>
                <a:latin typeface="TitilliumText25L"/>
              </a:rPr>
              <a:t>Regulaminu konkursu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Wnioskodawca zobowiązany jest określić wszystkie adekwatne dla projektu wskaźniki produktu i rezultatu, w tym </a:t>
            </a:r>
            <a:r>
              <a:rPr b="1" lang="pl-PL" sz="1400" spc="-1" strike="noStrike" u="sng">
                <a:solidFill>
                  <a:srgbClr val="254061"/>
                </a:solidFill>
                <a:uFillTx/>
                <a:latin typeface="TitilliumText25L"/>
              </a:rPr>
              <a:t>wskaźniki horyzontalne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, które zamierza osiągnąć w wyniku realizacji projektu. 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Jako </a:t>
            </a:r>
            <a:r>
              <a:rPr b="0" lang="pl-PL" sz="1400" spc="-1" strike="noStrike" u="sng">
                <a:solidFill>
                  <a:srgbClr val="254061"/>
                </a:solidFill>
                <a:uFillTx/>
                <a:latin typeface="Arial"/>
              </a:rPr>
              <a:t>wartość docelową wskaźnika należy </a:t>
            </a:r>
            <a:r>
              <a:rPr b="1" lang="pl-PL" sz="1400" spc="-1" strike="noStrike" u="sng">
                <a:solidFill>
                  <a:srgbClr val="254061"/>
                </a:solidFill>
                <a:uFillTx/>
                <a:latin typeface="Arial"/>
              </a:rPr>
              <a:t>wpisać 0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. Na etapie realizacji projektu (wniosku o płatność) powinien zostać odnotowany faktyczny przyrost wskaźni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Arial"/>
              </a:rPr>
              <a:t>F.1. 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W przypadku braku możliwości odzyskania podatku VAT w pkt 2 ankiety należy podać podstawę prawną oraz opisać odnoszący się do niej stan faktycz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Arial"/>
              </a:rPr>
              <a:t>G.1.2. 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Wnioskodawca zobowiązany jest do określenia dofinansowania poszczególnych wydatków </a:t>
            </a:r>
            <a:br>
              <a:rPr sz="1400"/>
            </a:b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w projekcie tak, by poziom dofinansowania dla poszczególnych wydatków </a:t>
            </a:r>
            <a:r>
              <a:rPr b="0" lang="pl-PL" sz="1400" spc="-1" strike="noStrike" u="sng">
                <a:solidFill>
                  <a:srgbClr val="254061"/>
                </a:solidFill>
                <a:uFillTx/>
                <a:latin typeface="Arial"/>
              </a:rPr>
              <a:t>nie przewyższał procentowej wartości wydatków kwalifikowanych projektu</a:t>
            </a:r>
            <a:r>
              <a:rPr b="0" lang="pl-PL" sz="14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54061"/>
                </a:solidFill>
                <a:latin typeface="TitilliumText25L"/>
                <a:ea typeface="Arial"/>
              </a:rPr>
              <a:t>G.8.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  <a:ea typeface="Arial"/>
              </a:rPr>
              <a:t>W przypadku </a:t>
            </a:r>
            <a:r>
              <a:rPr b="1" lang="pl-PL" sz="1400" spc="-1" strike="noStrike">
                <a:solidFill>
                  <a:srgbClr val="254061"/>
                </a:solidFill>
                <a:latin typeface="TitilliumText25L"/>
                <a:ea typeface="Arial"/>
              </a:rPr>
              <a:t>jednostek samorządu terytorialnego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  <a:ea typeface="Arial"/>
              </a:rPr>
              <a:t>należy zaznaczyć (oraz załączyć w ramach załącznika nr 2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bilans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opinia składu orzekającego RIO o sprawozdaniu z wykonania budże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254061"/>
                </a:solidFill>
                <a:uFillTx/>
                <a:latin typeface="TitilliumText25L"/>
              </a:rPr>
              <a:t>za rok poprzedni </a:t>
            </a:r>
            <a:r>
              <a:rPr b="0" lang="pl-PL" sz="1400" spc="-1" strike="noStrike">
                <a:solidFill>
                  <a:srgbClr val="254061"/>
                </a:solidFill>
                <a:latin typeface="TitilliumText25L"/>
              </a:rPr>
              <a:t>lub oświadczenie RIO za rok poprze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85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8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1349280"/>
          </a:xfrm>
          <a:prstGeom prst="rect">
            <a:avLst/>
          </a:prstGeom>
          <a:ln w="0">
            <a:noFill/>
          </a:ln>
        </p:spPr>
      </p:pic>
      <p:sp>
        <p:nvSpPr>
          <p:cNvPr id="189" name="Prostokąt 8"/>
          <p:cNvSpPr/>
          <p:nvPr/>
        </p:nvSpPr>
        <p:spPr>
          <a:xfrm>
            <a:off x="1547640" y="333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TitilliumText25L"/>
              </a:rPr>
              <a:t>Najczęściej popełniane błędy we wnioskach o dofinans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rostokąt 10" descr=""/>
          <p:cNvPicPr/>
          <p:nvPr/>
        </p:nvPicPr>
        <p:blipFill>
          <a:blip r:embed="rId4"/>
          <a:stretch/>
        </p:blipFill>
        <p:spPr>
          <a:xfrm>
            <a:off x="304920" y="1335240"/>
            <a:ext cx="86500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ytuł 1"/>
          <p:cNvSpPr/>
          <p:nvPr/>
        </p:nvSpPr>
        <p:spPr>
          <a:xfrm>
            <a:off x="2200320" y="503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raz 8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1349280"/>
          </a:xfrm>
          <a:prstGeom prst="rect">
            <a:avLst/>
          </a:prstGeom>
          <a:ln w="0">
            <a:noFill/>
          </a:ln>
        </p:spPr>
      </p:pic>
      <p:pic>
        <p:nvPicPr>
          <p:cNvPr id="196" name="Prostokąt 10" descr=""/>
          <p:cNvPicPr/>
          <p:nvPr/>
        </p:nvPicPr>
        <p:blipFill>
          <a:blip r:embed="rId4"/>
          <a:stretch/>
        </p:blipFill>
        <p:spPr>
          <a:xfrm>
            <a:off x="317520" y="1335240"/>
            <a:ext cx="6564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Symbol zastępczy zawartości 2"/>
          <p:cNvSpPr/>
          <p:nvPr/>
        </p:nvSpPr>
        <p:spPr>
          <a:xfrm>
            <a:off x="550800" y="1974960"/>
            <a:ext cx="8186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Skuteczne złożenie dokumentacji aplikacyjnej poleg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opublikowaniu wniosku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o dofinansowanie wraz z załącznikami w wersji elektronicznej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 Serwisie Beneficjenta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or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doręczeniu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do IZ RPO WZ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isemnego wniosku o przyznanie pomocy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, podpisanego zgodnie z zasadami reprezentacji obowiązującymi wnioskodawcę, zawierającego właściwą sumę kontrolną, najpóźniej w terminie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7 dni od daty wskazanej </a:t>
            </a:r>
            <a:br>
              <a:rPr sz="2000"/>
            </a:b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 wezwaniu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suma kontrolna, którą oznaczony jest pisemny wniosek </a:t>
            </a:r>
            <a:br>
              <a:rPr sz="2000"/>
            </a:b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o przyznanie pomocy, musi być tożsama z sumą kontrolną wniosku opublikowanego w LSI20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ytuł 1"/>
          <p:cNvSpPr/>
          <p:nvPr/>
        </p:nvSpPr>
        <p:spPr>
          <a:xfrm>
            <a:off x="1332000" y="40464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1f497d"/>
                </a:solidFill>
                <a:latin typeface="TitilliumText25L"/>
              </a:rPr>
              <a:t>Wniosek o dofinansow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10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Symbol zastępczy zawartości 2"/>
          <p:cNvSpPr/>
          <p:nvPr/>
        </p:nvSpPr>
        <p:spPr>
          <a:xfrm>
            <a:off x="550800" y="1773360"/>
            <a:ext cx="81867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Pisemny wniosek o przyznanie pomocy można złożyć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bezpośrednio</a:t>
            </a: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 w WWR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Urząd Marszałkowski Województwa Zachodniopomorskiego Wydział Wdrażania Regionalnego Programu Oper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ul. Ks. Kardynała Stefana Wyszyńskieg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 </a:t>
            </a: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70-203 Szczec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dokumenty są przyjmowane pod ww. adresem od poniedziałku do piątku w godzinach od 07:30 do 15:30 (tj. w godzinach pracy urzęd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l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TitilliumText25L"/>
              </a:rPr>
              <a:t>przesłać pocztą/kurierem </a:t>
            </a:r>
            <a:r>
              <a:rPr b="0" lang="pl-PL" sz="1800" spc="-1" strike="noStrike">
                <a:solidFill>
                  <a:srgbClr val="254061"/>
                </a:solidFill>
                <a:latin typeface="TitilliumText25L"/>
              </a:rPr>
              <a:t>na ww. ad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ytuł 1"/>
          <p:cNvSpPr/>
          <p:nvPr/>
        </p:nvSpPr>
        <p:spPr>
          <a:xfrm>
            <a:off x="1187280" y="404640"/>
            <a:ext cx="5227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1f497d"/>
                </a:solidFill>
                <a:latin typeface="TitilliumText25L"/>
              </a:rPr>
              <a:t>Wniosek o dofinansow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raz 10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Symbol zastępczy zawartości 2"/>
          <p:cNvSpPr/>
          <p:nvPr/>
        </p:nvSpPr>
        <p:spPr>
          <a:xfrm>
            <a:off x="539640" y="1341360"/>
            <a:ext cx="8186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UWAG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przypadku przesłania za pośrednictwem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oczty Polskiej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- za datę założenia wniosku uznaje się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datę stempla pocztowego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, </a:t>
            </a: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tj. datę nadania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przypadku przesłania za pośrednictwem innego operatora (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pocztą kurierską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) – za datę złożenia wniosku uznaje się </a:t>
            </a: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datę wpływ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Ewentualnej poprawy/uzupełnienia (na ocenie wstępnej lub merytorycznej) należy dokonać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 terminie 7 dni od dnia otrzymania wezwania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 (w terminie 7 dni należy opublikować zaktualizowany wniosek oraz złożyć do IZ RPO WZ oświadczenie o wprowadzeniu uzupełnień/poprawy dokumentacji aplikacyj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ytuł 1"/>
          <p:cNvSpPr/>
          <p:nvPr/>
        </p:nvSpPr>
        <p:spPr>
          <a:xfrm>
            <a:off x="1042920" y="40464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1f497d"/>
                </a:solidFill>
                <a:latin typeface="TitilliumText25L"/>
              </a:rPr>
              <a:t>Wniosek o dofinansow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Symbol zastępczy zawartości 2"/>
          <p:cNvSpPr/>
          <p:nvPr/>
        </p:nvSpPr>
        <p:spPr>
          <a:xfrm>
            <a:off x="550800" y="1341360"/>
            <a:ext cx="818676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Regulaminy naborów do Działań dedykowanych ZIT publikowane są na stronie internetow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http://www.rpo.wzp.pl/skorzystaj/nab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W Regulaminie naboru określone są szczegółowe zasady ubiegania się o dofinansowanie, kryteria wyboru projektów oraz dokumenty, na podstawie których dokonywana jest ocena, w podziale </a:t>
            </a:r>
            <a:r>
              <a:rPr b="0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na załączni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obowiązkowe, które obligatoryjnie należy przedłożyć na etapie   składania wniosku o 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obowiązkowe, które mogą zostać uzupełnione na etapie poprzedzającym podpisanie umowy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nieobowiązk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ytuł 1"/>
          <p:cNvSpPr/>
          <p:nvPr/>
        </p:nvSpPr>
        <p:spPr>
          <a:xfrm>
            <a:off x="971640" y="260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1f497d"/>
                </a:solidFill>
                <a:latin typeface="TitilliumText25L"/>
              </a:rPr>
              <a:t>Regulaminy naborów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8" descr=""/>
          <p:cNvPicPr/>
          <p:nvPr/>
        </p:nvPicPr>
        <p:blipFill>
          <a:blip r:embed="rId3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Obraz 3" descr=""/>
          <p:cNvPicPr/>
          <p:nvPr/>
        </p:nvPicPr>
        <p:blipFill>
          <a:blip r:embed="rId2"/>
          <a:stretch/>
        </p:blipFill>
        <p:spPr>
          <a:xfrm>
            <a:off x="268200" y="61920"/>
            <a:ext cx="108576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"/>
          <p:cNvPicPr/>
          <p:nvPr/>
        </p:nvPicPr>
        <p:blipFill>
          <a:blip r:embed="rId3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Obraz 10" descr="Opis: C:\Users\mnowaczyk\Desktop\Promocja\ciąg logotypów_NSS-UE-FStru_RPO-WZ_14-20_kolor.jpg"/>
          <p:cNvPicPr/>
          <p:nvPr/>
        </p:nvPicPr>
        <p:blipFill>
          <a:blip r:embed="rId4"/>
          <a:stretch/>
        </p:blipFill>
        <p:spPr>
          <a:xfrm>
            <a:off x="603360" y="6329520"/>
            <a:ext cx="4816440" cy="519120"/>
          </a:xfrm>
          <a:prstGeom prst="rect">
            <a:avLst/>
          </a:prstGeom>
          <a:ln w="0">
            <a:noFill/>
          </a:ln>
        </p:spPr>
      </p:pic>
      <p:sp>
        <p:nvSpPr>
          <p:cNvPr id="77" name="pole tekstowe 10"/>
          <p:cNvSpPr/>
          <p:nvPr/>
        </p:nvSpPr>
        <p:spPr>
          <a:xfrm>
            <a:off x="1403280" y="1989000"/>
            <a:ext cx="64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TitilliumText25L"/>
              </a:rPr>
              <a:t>Działanie 1.12 </a:t>
            </a:r>
            <a:r>
              <a:rPr b="0" lang="pl-PL" sz="2000" spc="-1" strike="noStrike">
                <a:solidFill>
                  <a:srgbClr val="254061"/>
                </a:solidFill>
                <a:latin typeface="TitilliumText25L"/>
              </a:rPr>
              <a:t>Tworzenie i rozbudowa infrastruktury na rzecz rozwoju gospodarczego w ramach Strategii ZIT dla Koszalińsko-Kołobrzesko-Białogardzkiego Obszaru Funkcjonalnego – </a:t>
            </a:r>
            <a:r>
              <a:rPr b="1" lang="pl-PL" sz="2000" spc="-1" strike="noStrike" u="sng">
                <a:solidFill>
                  <a:srgbClr val="254061"/>
                </a:solidFill>
                <a:uFillTx/>
                <a:latin typeface="TitilliumText25L"/>
              </a:rPr>
              <a:t>ważne informa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Obraz 3" descr=""/>
          <p:cNvPicPr/>
          <p:nvPr/>
        </p:nvPicPr>
        <p:blipFill>
          <a:blip r:embed="rId2"/>
          <a:stretch/>
        </p:blipFill>
        <p:spPr>
          <a:xfrm>
            <a:off x="268200" y="61920"/>
            <a:ext cx="108576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Obraz 6" descr=""/>
          <p:cNvPicPr/>
          <p:nvPr/>
        </p:nvPicPr>
        <p:blipFill>
          <a:blip r:embed="rId3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rostokąt 8"/>
          <p:cNvSpPr/>
          <p:nvPr/>
        </p:nvSpPr>
        <p:spPr>
          <a:xfrm>
            <a:off x="1619280" y="189000"/>
            <a:ext cx="56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1.12 Tworzenie i rozbudowa infrastruktury na rzecz rozwoju gospodarczego w ramach Strategii ZIT dla Koszalińsko-Kołobrzesko-Białogardzkiego Obszaru Funkcjonaln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4360" y="1628640"/>
          <a:ext cx="8064360" cy="3961080"/>
        </p:xfrm>
        <a:graphic>
          <a:graphicData uri="http://schemas.openxmlformats.org/drawingml/2006/table">
            <a:tbl>
              <a:tblPr/>
              <a:tblGrid>
                <a:gridCol w="196560"/>
                <a:gridCol w="1051200"/>
                <a:gridCol w="3811320"/>
                <a:gridCol w="1222560"/>
                <a:gridCol w="841320"/>
                <a:gridCol w="941400"/>
              </a:tblGrid>
              <a:tr h="75744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L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Nazwa Wnioskodaw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Tytuł projektu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Przewidywany termin złożenia wniosku o dofinansowanie </a:t>
                      </a:r>
                      <a:r>
                        <a:rPr b="1" lang="pl-PL" sz="900" spc="-1" strike="noStrike" u="sng">
                          <a:solidFill>
                            <a:srgbClr val="254061"/>
                          </a:solidFill>
                          <a:uFillTx/>
                          <a:latin typeface="Arial"/>
                        </a:rPr>
                        <a:t>wg dekla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Osoba do kontakt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Kontak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Miasto Kosz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Uzbrojenie terenów inwestycyjnych SSSE w Koszali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marzec 2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lżbieta Koniecz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91 44 11 687</a:t>
                      </a:r>
                      <a:br>
                        <a:rPr sz="900"/>
                      </a:b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konieczna@wzp.p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Białogardzki Park Inwestycyjny Invest Park Sp. z o.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Rozwój przedsiębiorczości na terenie Koszalińsko-Kołobrzesko-Białogardzkiego Obszaru Funkcjonalnego poprzez uzbrojenie terenów Białogardzkiego Parku Inwestycyjnego w Białogardzi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rudzień 2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Anna Koc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91 44 11 648</a:t>
                      </a:r>
                      <a:br>
                        <a:rPr sz="900"/>
                      </a:b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akocik@wzp.p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Gmina Bobol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Uzbrojenie części strefy inwestycyjnej w Bobolicach, objętej patronatem SSSE - etap I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styczeń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Anna Koc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91 44 11 648</a:t>
                      </a:r>
                      <a:br>
                        <a:rPr sz="900"/>
                      </a:br>
                      <a:r>
                        <a:rPr b="1" lang="pl-PL" sz="9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akocik@wzp.p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az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Obraz 3" descr=""/>
          <p:cNvPicPr/>
          <p:nvPr/>
        </p:nvPicPr>
        <p:blipFill>
          <a:blip r:embed="rId2"/>
          <a:stretch/>
        </p:blipFill>
        <p:spPr>
          <a:xfrm>
            <a:off x="250920" y="777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Obraz 6" descr=""/>
          <p:cNvPicPr/>
          <p:nvPr/>
        </p:nvPicPr>
        <p:blipFill>
          <a:blip r:embed="rId3"/>
          <a:stretch/>
        </p:blipFill>
        <p:spPr>
          <a:xfrm>
            <a:off x="0" y="0"/>
            <a:ext cx="181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Symbol zastępczy zawartości 2"/>
          <p:cNvSpPr/>
          <p:nvPr/>
        </p:nvSpPr>
        <p:spPr>
          <a:xfrm>
            <a:off x="550800" y="1268280"/>
            <a:ext cx="818676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W przypadku Działania 1.12 załączniki n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6000" algn="just">
              <a:lnSpc>
                <a:spcPct val="100000"/>
              </a:lnSpc>
              <a:spcBef>
                <a:spcPts val="400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254061"/>
                </a:solidFill>
                <a:uFillTx/>
                <a:latin typeface="TitilliumText25L"/>
                <a:ea typeface="Arial"/>
              </a:rPr>
              <a:t>5.19:</a:t>
            </a:r>
            <a:r>
              <a:rPr b="0" lang="pl-PL" sz="1600" spc="-1" strike="noStrike">
                <a:solidFill>
                  <a:srgbClr val="254061"/>
                </a:solidFill>
                <a:latin typeface="TitilliumText25L"/>
                <a:ea typeface="Arial"/>
              </a:rPr>
              <a:t> Dokumenty będące gwarancją realizacji celów projektu, tzn. potwierdzające, </a:t>
            </a:r>
            <a:br>
              <a:rPr sz="1600"/>
            </a:br>
            <a:r>
              <a:rPr b="0" lang="pl-PL" sz="1600" spc="-1" strike="noStrike">
                <a:solidFill>
                  <a:srgbClr val="254061"/>
                </a:solidFill>
                <a:latin typeface="TitilliumText25L"/>
                <a:ea typeface="Arial"/>
              </a:rPr>
              <a:t>że w wyniku nawiązanego stosunku prawnego z podmiotami będącymi właścicielami lub dysponentami nieruchomości wnioskodawca ma i będzie miał wpływ/zaangażowanie w proces zasiedlania inwestorów na danym terenie (dotyczy przypadków, w których wnioskodawca nie posiada prawa własności lub wieczystego użytkowania gruntu, na którym usytuowana jest strefa inwestycyjn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6000" algn="just">
              <a:lnSpc>
                <a:spcPct val="100000"/>
              </a:lnSpc>
              <a:spcBef>
                <a:spcPts val="400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254061"/>
                </a:solidFill>
                <a:uFillTx/>
                <a:latin typeface="TitilliumText25L"/>
                <a:ea typeface="Arial"/>
              </a:rPr>
              <a:t>5.20:</a:t>
            </a:r>
            <a:r>
              <a:rPr b="0" lang="pl-PL" sz="1600" spc="-1" strike="noStrike">
                <a:solidFill>
                  <a:srgbClr val="254061"/>
                </a:solidFill>
                <a:latin typeface="TitilliumText25L"/>
                <a:ea typeface="Arial"/>
              </a:rPr>
              <a:t> Dokumenty dowodzące, że struktura własnościowa obszaru objętego wsparciem gwarantuje, iż późniejsze inwestycje przedsiębiorstw na uzbrajanym terenie będą przebiegały bez przeszkód formalno-prawnych (jeśli dotyczy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6000" algn="just">
              <a:lnSpc>
                <a:spcPct val="100000"/>
              </a:lnSpc>
              <a:spcBef>
                <a:spcPts val="400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254061"/>
                </a:solidFill>
                <a:uFillTx/>
                <a:latin typeface="TitilliumText25L"/>
                <a:ea typeface="Arial"/>
              </a:rPr>
              <a:t>5.21:</a:t>
            </a:r>
            <a:r>
              <a:rPr b="0" lang="pl-PL" sz="1600" spc="-1" strike="noStrike">
                <a:solidFill>
                  <a:srgbClr val="254061"/>
                </a:solidFill>
                <a:latin typeface="TitilliumText25L"/>
                <a:ea typeface="Arial"/>
              </a:rPr>
              <a:t> Dokumenty potwierdzające strukturę własnościową obszaru strefy nie będącej własnością wnioskodawcy (jeśli dotycz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(obowiązkowe, które obligatoryjnie należy załączyć na etapie składania wniosku </a:t>
            </a:r>
            <a:br>
              <a:rPr sz="1600"/>
            </a:b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o dofinansowanie) nawiązują do zapisu Regulaminu naboru, zgodnie </a:t>
            </a:r>
            <a:br>
              <a:rPr sz="1600"/>
            </a:b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z którym IZ RPO WZ dopuszcza inne formy dysponowania nieruchomością na której realizowany jest projekt, niż prawo własności /użytkowania wieczyste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6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TitilliumText25L"/>
                <a:ea typeface="Arial"/>
              </a:rPr>
              <a:t>Przedkładając ww. załączniki wnioskodawca musi udowodnić możliwość osiągnięcia celów projektu, jakim jest przekazanie terenów przeznaczonych pod inwestycje MŚP tym właśnie podmiot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ytuł 1"/>
          <p:cNvSpPr/>
          <p:nvPr/>
        </p:nvSpPr>
        <p:spPr>
          <a:xfrm>
            <a:off x="2700360" y="476280"/>
            <a:ext cx="52275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"/>
          <p:cNvPicPr/>
          <p:nvPr/>
        </p:nvPicPr>
        <p:blipFill>
          <a:blip r:embed="rId4"/>
          <a:stretch/>
        </p:blipFill>
        <p:spPr>
          <a:xfrm>
            <a:off x="7316640" y="-20520"/>
            <a:ext cx="1733760" cy="134928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9"/>
          <p:cNvSpPr/>
          <p:nvPr/>
        </p:nvSpPr>
        <p:spPr>
          <a:xfrm>
            <a:off x="1547640" y="26028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TitilliumText25L"/>
              </a:rPr>
              <a:t>1.12 Tworzenie i rozbudowa infrastruktury na rzecz rozwoju gospodarczego w ramach Strategii ZIT dla Koszalińsko-Kołobrzesko-Białogardzkiego Obszaru Funkcjonaln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10:25:24Z</dcterms:created>
  <dc:creator>ssnop</dc:creator>
  <dc:description/>
  <dc:language>en-US</dc:language>
  <cp:lastModifiedBy>mlichtanska</cp:lastModifiedBy>
  <dcterms:modified xsi:type="dcterms:W3CDTF">2016-12-20T16:29:45Z</dcterms:modified>
  <cp:revision>116</cp:revision>
  <dc:subject/>
  <dc:title>Slajd 1</dc:title>
</cp:coreProperties>
</file>